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CB05-9B47-4C2F-B85E-9C9BA73FF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 all of your documents to the items abov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 all of your documents to the items abov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8CB2-ACED-48B8-8C14-808C29D5E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0D26-6749-48E5-89B1-CB90F552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FCDA-A088-44EF-B0E6-F1A092B18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6D8B-86F0-41E2-93CD-12C1D79DE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A1C9-EC04-4C09-A4CF-E030A30C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A503-B701-4774-8FCC-D84D9243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A323-1AAC-4EEB-B695-3953E51B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75A1-99CF-4EE0-886A-8E5609D2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62E6-FFDD-4D59-94FB-F8513E84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52BF-1988-46B0-ACCB-1A7F3983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B235-27AC-441A-BDF4-868C9B7F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57B7-D616-4C02-9A36-DEB1A517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BD7B-C41C-4C21-82BD-89192A15D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Verdana"/>
              </a:rPr>
              <a:t>Indicaţii privind realizarea </a:t>
            </a:r>
            <a:br>
              <a:rPr sz="3200"/>
            </a:br>
            <a:r>
              <a:rPr b="0" lang="ro-RO" sz="3200" spc="-1" strike="noStrike">
                <a:solidFill>
                  <a:srgbClr val="000000"/>
                </a:solidFill>
                <a:latin typeface="Verdana"/>
              </a:rPr>
              <a:t>portofoliului electr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tili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zaţi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Ghid de asistenţă dacă aveţi nevoie de suport în completarea oricărei abilităţi tehnologice identificate mai j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Pe diapozitivul introductiv, scrieţi titlul unităţii de învăţare, numele dumneavoastră, descrierea unităţii de învăţare şi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lasa/clasele vizate prin unitatea de învăţare – nivelul sau anul de studiu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Pe următorul diapozitiv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Creaţi legături (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perlink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) către documentele dumneavoastră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Multimedia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, Abilitate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7.9), 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s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c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ă veţi muta portofoliul dumneavoastră pe alt calculator după crearea legăturilor, inseraţi documetele ca şi obiect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(Multimedia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, Abilitatea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.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Inserarea documentelor poate creşte foarte mult dimensiunea prezentă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66"/>
                </a:solidFill>
                <a:latin typeface="Verdana"/>
              </a:rPr>
              <a:t>Ştergeţi acest diapozitiv când aţi finalizat prezentarea</a:t>
            </a:r>
            <a:r>
              <a:rPr b="0" lang="en-US" sz="2000" spc="-1" strike="noStrike">
                <a:solidFill>
                  <a:srgbClr val="ff0066"/>
                </a:solidFill>
                <a:latin typeface="Verdana"/>
              </a:rPr>
              <a:t>. </a:t>
            </a: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(Multimedia </a:t>
            </a:r>
            <a:r>
              <a:rPr b="0" lang="ro-RO" sz="2000" spc="-1" strike="noStrike">
                <a:solidFill>
                  <a:srgbClr val="ff0066"/>
                </a:solidFill>
                <a:latin typeface="Verdana"/>
              </a:rPr>
              <a:t>, Abilitatea</a:t>
            </a: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 3.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Salvaţi această preyentare în directorul Portofoliu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Verdana"/>
              </a:rPr>
              <a:t>Prezentarea portofoliului</a:t>
            </a:r>
            <a:br>
              <a:rPr sz="4000"/>
            </a:br>
            <a:br>
              <a:rPr sz="4000"/>
            </a:br>
            <a:r>
              <a:rPr b="0" lang="ro-RO" sz="4000" spc="-1" strike="noStrike">
                <a:solidFill>
                  <a:srgbClr val="000000"/>
                </a:solidFill>
                <a:latin typeface="Verdana"/>
              </a:rPr>
              <a:t>Titlul unităţii de învăţ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240" y="4038480"/>
            <a:ext cx="746748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N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Descrierea unităţii de învăţ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lasa/clasele vizate prin unitatea de învăţare – nivelul sau anul de stud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96080" y="5562720"/>
            <a:ext cx="914400" cy="887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480" y="2743200"/>
            <a:ext cx="909360" cy="1066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122640" y="22860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Titlul unităţii de învăţ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312408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Exemplul creat din perspectiva elev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411480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Evaluarea exemplului creat din perspectiva elev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52480" y="54864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Alte fiş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5880" y="31240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Alte fiş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4648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Resurse asistenţă uni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54864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Resurse pentru facili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762120" y="304920"/>
            <a:ext cx="2512800" cy="295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019920" y="304920"/>
            <a:ext cx="2512800" cy="295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380880" y="5334120"/>
            <a:ext cx="1371600" cy="125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1219320" y="1143000"/>
          <a:ext cx="7543800" cy="1881360"/>
        </p:xfrm>
        <a:graphic>
          <a:graphicData uri="http://schemas.openxmlformats.org/drawingml/2006/table">
            <a:tbl>
              <a:tblPr/>
              <a:tblGrid>
                <a:gridCol w="2514600"/>
                <a:gridCol w="5029200"/>
              </a:tblGrid>
              <a:tr h="60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Întrebare esenţială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Întrebările unităţii de învăţar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Întrebări de conţinu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7772400" y="2666880"/>
            <a:ext cx="885960" cy="1324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112640" y="4033800"/>
            <a:ext cx="29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Planul unităţii de învăţ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96080" y="5562720"/>
            <a:ext cx="914400" cy="887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3520" y="1066680"/>
            <a:ext cx="909360" cy="1067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122640" y="22860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Titlul unităţii de învăţ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1295280"/>
            <a:ext cx="213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Exemplul creat din perspectiva elev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3048120"/>
            <a:ext cx="30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Evaluarea exemplului creat din perspectiva elev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54864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Alte fiş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31240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Alte fiş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34320" y="4648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Resurse asistenţă uni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38680" y="54864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Resurse pentru facili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62120" y="304920"/>
            <a:ext cx="2512800" cy="295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019920" y="304920"/>
            <a:ext cx="2512800" cy="295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457200" y="4876920"/>
            <a:ext cx="1371600" cy="1258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7772400" y="2666880"/>
            <a:ext cx="885960" cy="1324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112640" y="4033800"/>
            <a:ext cx="29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Verdana"/>
              </a:rPr>
              <a:t>Planul unităţii de învăţ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02:09:36Z</dcterms:created>
  <dc:creator>slshottx</dc:creator>
  <dc:description/>
  <dc:language>en-US</dc:language>
  <cp:lastModifiedBy>Carmen</cp:lastModifiedBy>
  <dcterms:modified xsi:type="dcterms:W3CDTF">2008-10-27T13:17:55Z</dcterms:modified>
  <cp:revision>19</cp:revision>
  <dc:subject/>
  <dc:title>Unit Plan Portfolio</dc:title>
</cp:coreProperties>
</file>